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5AD-1391-4F48-8918-390EBADC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591-5651-4AB3-8652-85C0491E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142-4179-4234-87FC-F3BC2A9A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B32-BA3E-450D-9D1D-9C53D6D2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302F-971C-43A8-B3CB-601C893A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2337-7EC2-4780-83ED-75562522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13AA-7D38-4489-A42A-855498CC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316-33D9-4F60-8A78-061F4908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1284-57FD-4175-9147-C9630BC3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5406-CEE5-4AB4-A7B5-368B98F3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0181-8C15-4D17-B3F0-8CA8057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E67-2B83-47F7-A7E0-C3E994F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03BE-8CA0-41FD-847C-F459CDF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5C4D-BFA0-416B-956E-3B99E57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20BE-214F-4FFA-A39C-5EC0BA64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84AD-49BD-46E5-8E40-14733DA8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52D-B63B-4E97-ABE1-1B0B09E6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A2D-5BB2-4E5B-8FE3-7721A0E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4B8-0506-4988-9BB5-3F87D411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BDB-B06F-4B3A-A1B1-FB58D18A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A54-D10C-4EA3-90F5-BD8A4C6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79B-8A3B-44F3-9721-01991E98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E61-94A3-49A3-882B-D731895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19B-870F-4DC9-BD6A-542C416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E88E-B2C4-4620-96DB-2FE0128A12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8E1-BF64-4802-AD97-1795BE265E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hapter 15</a:t>
            </a:r>
            <a:br>
              <a:rPr sz="36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 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IVI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578640"/>
            <a:ext cx="84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spects, Plans, and Expect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436840"/>
            <a:ext cx="772956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adopts defensive strategy: North must fight in unfamiliar, hostile terr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dopts two-front strate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Confederate capital, Richmond, 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e control of the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 navy to blockade Southern 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verview of Civil War Strateg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88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obilizing the Home Front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2: North and South begin con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 war through taxes, bonds, paper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industry supplies Union armie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arsenals supply Confederate ar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orts to finance lead to runaway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system in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olitical Leadership: Northern Success and Southern Failur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729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expands wartime pow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s martial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isons 10,000 "subversives" without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ly closed down a few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mainly with military du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s civilian morale,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influence with state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arly Campaigns and Battl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naval supre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troops cleared from West Virginia, Kentucky, much of T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leans captu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ll campaign for the Mississippi at Shil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 Richmond from ca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655800" cy="4647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2880" y="590400"/>
            <a:ext cx="327672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1-1862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iplomatic Struggl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88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igerent rights extended to Confede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: Recognition of independence on proof that South can win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: Confederacy not recognized unless England does so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King Cotton" has little influence on foreign policy of other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ight to the Finish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dopts radical measures to 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3: War turns against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resistance contin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oming of Emancip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6448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2, 1862: Antietam prompts preliminary Emancipation Procla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nder in 100 days or lose s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1, 1863: Proclamation put into effect for areas still in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 flee to Unio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cy loses thousands of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rican Americans 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436840"/>
            <a:ext cx="78408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,000 African American Union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thers labor in Northern war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pushes further for black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s governments in conquered Southern states that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, Missouri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31, 1865: 13th Amendment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Storm Gather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ession does not necessarily mean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last attempt to reconcile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response to secession deb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Tide Tur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612200" cy="54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, 1863: War-wear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riots against con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war activist like Congressman Clement Vallandigham arr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 bogged down at Vicksbur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defeated at Chancellor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“Copperheads” attack Linco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 invasion of North fails at Battle of Getty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ksburg falls, North holds the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9, 1864: Grant made supreme commander of Union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invades the South on all fro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Sherman marches through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lays siege to Richmond, Petersb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, 2: Sherman takes Atla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, 8: Lincoln re-e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lection of 1864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057400"/>
            <a:ext cx="769608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didat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r Vo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oral Vo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col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ublic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,213,655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cClell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mocrati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,805,237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Out of a total of 233 electoral votes. The eleven secessionist states—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abama, Arkansas, Florida, Georgia, Louisiana, Mississippi, No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olina, South Carolina, Tennessee, Texas, and Virginia—did not vo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60504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76560" y="590400"/>
            <a:ext cx="388620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3-1865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0880" y="2133720"/>
            <a:ext cx="75150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rman’s March to the sea through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ched earth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, 1865: Grant takes Richmo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9, 1865: Lee surren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4, 1865: Lincoln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8, 1865: Last major Confederate force under Joseph Johnston surren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53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18,000 troops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eft women seek non-domestic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illion African Americans free, not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workers face wartime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asualties of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77240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56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predominant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takes activist role in the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tariffs, free land, national bank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n Organizational Revolution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2211120"/>
            <a:ext cx="772956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bureaucratic state eme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 gives way to organized, cooperativ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 for transformation of American society in the late nine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9520" y="1980720"/>
            <a:ext cx="8304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20,1860: South Carolina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1: Confederate States of America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South Carolina, Georgia, Florida, Alabama, Mississippi, Louisiana, and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001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headed by moder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constitution resembles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restore pre-Republican Party Un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ers hope to attract Northern states into Confed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Failure of Compromis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tenden Plan: Extend the Missouri Compromise line to the Pa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rejects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think it will end sec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perceived depth of support for secession and thought compromise would demoralize union sympath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ed as repudiation of majority ru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the War Cam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seeks action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3, 1861: Fort Sumter, S.C,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, 15: Lincoln calls out Northern state militias to suppress Southern in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–May: Upper South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 states: Slave states remain i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defined as effort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justing to Tota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must win by destroying will to res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War: a test of societies, economies, political systems as well as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sources of the Union and the Confederacy, 186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01000" cy="383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4:06:34Z</dcterms:created>
  <dc:creator>CMU</dc:creator>
  <dc:description/>
  <cp:keywords/>
  <dc:language>en-US</dc:language>
  <cp:lastModifiedBy>Teresa Ward User</cp:lastModifiedBy>
  <cp:lastPrinted>2011-08-16T00:38:00Z</cp:lastPrinted>
  <dcterms:modified xsi:type="dcterms:W3CDTF">2006-11-09T17:11:57Z</dcterms:modified>
  <cp:revision>11</cp:revision>
  <dc:subject/>
  <dc:title>SECESSION AND THE CIVIL WAR</dc:title>
</cp:coreProperties>
</file>